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6.jpeg" ContentType="image/jpeg"/>
  <Override PartName="/ppt/media/image4.png" ContentType="image/png"/>
  <Override PartName="/ppt/media/image12.wmf" ContentType="image/x-wmf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644D-CDB6-40F9-9A15-0BD2AF9D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BB28-2E6F-4D19-B619-F40D6F3F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8BE11-EA5D-4EDE-BAD6-D4D9AE2E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9C60E-BDB7-492C-A462-D6BD05E0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2E3C7-65F0-428D-886C-FBC16B42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B5EA7-29A6-41CA-B5E4-5517190C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9BD67-C472-4AB6-86A4-32A4B787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F4233-C63E-4F6D-BA36-23881226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6ADA8-53B4-43EA-A5F5-3DD0F81C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80141-520D-4401-ADAB-BE70C011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5F637-4F49-4888-9BD9-7FFAFB56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09030-8F75-4D21-A021-732F0D9C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6E3F-5DC6-4E87-BB54-5BA9F672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94A45-0866-4621-8D36-C8696D06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6E0DD-02A7-4AD7-AF92-6B1FCBE4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C54D9-BE90-492F-A5FA-8A11C22D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99E17-09CB-4ABF-8EEF-DE7D6E1B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B4693-A9A7-40CA-8E2A-0B381A24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9EC80-7373-4CF7-B895-5D5EECC7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2F386-B296-459B-95C2-4F21A75D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93733-DBCD-40DC-AE6E-B928D687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57CF3-6F96-4B71-A824-58DDFFB7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AC06A-9939-412C-8696-3F3CD1D1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031D-77B1-4E57-8859-87C5DD8A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F38AF-42CC-4B2D-A51E-5BACCFAE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038F4F-19E0-4FAE-893A-AC1F7125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B9804A-CE77-4936-8A0D-634C2AC0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F7CFBF-5C97-4F9E-8F50-D0809F43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0BB1D9-EBEE-4563-A21E-FD644B6F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9F9276-6563-415C-A94E-7826B51F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702714-AC4A-42D1-B8DF-38C6E4A7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963EA0-8DDE-4BA5-9927-88671D8C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56B842-A55E-43F7-848A-9D2A3E4D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67B697-6464-4F62-B074-49A8F4D4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7615-D786-4103-AB31-BD3665A0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E94E76-6A6D-4843-8B5E-BE890446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6230FA-224F-4481-A55A-501F97E2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2A0F34-D5BB-4574-807C-EE1B2B8C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058FD-2F29-4A8B-940A-00C2B3D5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14452-699C-4BB9-A911-664E9BF4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F95CA-CB8B-46EA-A27A-85717FCB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FBBE7-CDC5-4AB7-B25E-C6C89473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A5E10-8A05-4145-ABBE-4A0FF864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50E0D-5435-40D1-A581-12405F04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36A49-D4B3-4851-927C-E3671218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F251-C098-487A-B1D2-6F892BA7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7E5CF-0200-4CB4-B32B-7BA1A4C6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EE5BD-B38E-45F1-8726-8254E2AA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08626-5A2A-40E1-9FCF-B10CD937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FA560-0E5C-4206-A5DA-EFBB8840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2A31A-4D77-4CD4-885F-39EE728E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AB85DF-2FCD-4634-9C34-CD74A5F3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13B88-25B5-4BEB-87E2-3A5C9DCA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507D9-81A9-46CE-BA86-848E4072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967756-EF65-4744-B06B-E874A6FD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33A0E-B51F-4802-8FD8-76F9052C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F1F1-D281-46AC-84E4-C807C9DD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0DC076-E5B7-4431-85B3-05D4D084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855AC-E5D8-4638-9A69-049F2BC3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B47447-1AF5-4004-857E-713D580A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A72CAF-6CB7-4689-8E75-7648B580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C605B4-FFAC-407A-8FD4-87BBBA84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9C9212-9D1B-4E08-B3A6-3E1A4F39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BE7317-2895-49D6-830F-8B4A257D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86A64F-290B-408E-BB54-85C0EF50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AC5E1C-ECF5-4710-B569-6A407F8A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F50A93-F634-42D6-BBA9-01299C4F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D731-CF49-48AB-B1A6-5CBE7D39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E57E3B-01DF-4356-A4C9-ACB499D9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2A8634-EDD3-4EC7-B6EC-002591D2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8C0BB8-E7BB-40A5-97A7-170817D0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29CAFC-EB44-48C8-8929-AA431649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B88802-6433-4229-81E1-4FDBEAEB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0F8C89-428D-4403-B9AE-C33AAA0D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F9BA89-D35E-486B-A18D-B740BCF5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8B355A-CE9B-4A87-9024-E1144522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12CB45-F13E-449D-9455-11A76539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963B7D-CAB2-43CD-9E3B-AD6FA3BD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C566-D056-4B7D-84AF-755F6D40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3650F2-5C94-4537-BAE9-A7949C58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B465D4-2A69-4ED2-8E61-D14B7411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0926BB-B908-4B45-AAC6-CCE1ECA3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DC21E9-AEA5-487C-AF68-EA20CAEA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8EB0CB-550A-48E3-B2F1-74F787DC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AF32DD-66D0-4C4A-A9A0-79B0A941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53E3D6-4F84-459B-BA14-2287FEDD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8CCA3D-DCEC-4AD5-8F1E-F38532B5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C06682-CE58-49D0-9819-2BC07225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045E19-3C72-4165-A3AF-8165F37A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7136-E578-46A7-8849-0F969C66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FAB439-28E0-4883-825C-09E7470D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0071D0-5CBD-49DA-B6FB-FA37BE15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E02AE4-9717-4FF2-A79B-23F61916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52959D-D8DE-4375-A3CB-AB2C64CC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746C76-7324-4A18-B53D-19F6EE60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7C5DDF-F244-412C-8CE5-764B614B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E07D51-2B8E-44EF-A4DF-9BAC0C0B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860D6D-D48D-4987-82E9-47F0B2C4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DDEDF3-EDD2-44E2-A921-9526DB08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6F85E5-1E2A-4980-AABE-04A7E19F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CFCF-115D-43BC-A15B-0DBBA238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EA6031-490D-457A-B5FC-C8FEFA19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80321E-B81E-4773-BDF4-3D03D4B1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EBDCD4-53FD-4C85-B346-23B4E45F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C056B37-8E38-4F9B-8E79-9E869EAB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168B3BC-C146-4658-9376-F4F3BEEF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74FAFBC-EC6B-4CA7-9587-ABE1EFCB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7C2DC8A-E004-4DD5-B932-DFEF941C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7F9F2C9-4E6A-43DC-94EF-3F67C7DB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67A5F31-F1D8-45E2-A0D7-3FAB3DDD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6ADA05F-8207-42BF-831E-0C060BDD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D202-7329-4D8A-8B42-CA8D2ECC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95F0-16E9-4A07-81DC-98FF3467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2960210-A6DF-4623-8742-43A443F3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982C324-99BE-440B-BF42-9026175E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61ECDB2-26CD-488C-90C5-64112878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BD38DF7-BFEB-424B-8E0D-326571B3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6571C83-2773-4DFC-B778-4559FAD9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ED3817-FF47-450F-AA49-15C963D1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62A70F-537E-4DE8-9BB1-202EF414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4C9286-5E19-45AD-99B2-4CADD84C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8B29CB-A93A-4880-A9D0-816F35EE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0536E2-FE95-471B-8F93-F9D71145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F871-A1E2-4DA0-8FE7-CA6C5846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D64139-3B47-4C66-B7B4-4CE1A426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F15973-15E6-4E04-BE51-D8277E72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7A26BC-FF8C-4C1D-B3D1-B1C0E2A0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2B1741-196F-48E5-92A8-763D8AA6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DEE3A5-2A02-43F5-A2FD-EE566098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E0EF63-0242-4E41-B24A-A19CDA5B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A99BBE-5DAA-4F5C-BBA3-6A991DCA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CA324F-0D12-49BD-BEF3-64384536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E576C9-0C01-4D5E-AE59-AE4F063F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4E8A38-AF28-4676-BDCE-BE672B62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C5DB-C8B3-4C2C-B150-93C51DBD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CEAC19-E608-4F8F-80A7-180DA3A8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748B4B-67BF-4A59-8BDF-64CC44C4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A5DAE0-2BBB-4707-98AE-72164266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197594-E8DF-43D1-8CB3-0BD9C99A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ADC494-8117-48D7-8ED7-9B10A15F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7EDCC9-8A3E-450F-A377-1A3254D8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9BAFBC-D4B6-450C-B2E7-28052B4A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710E7F-AB85-487F-9C46-65DB0D4A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B45A10-FDF3-4232-95B9-34594973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182CF7-CF7C-4E3C-91FF-B83398E6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AC18-69C2-4D41-A8AF-D3D62DB6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AF8B7A-ED0F-40EE-BAF2-22A6158F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B02989-B2FC-4E01-9DDA-5D671DCC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179991-6DF7-4433-A103-7A82B971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117BD3-E10A-4880-BAE2-67A5A9E9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649AA3-DD91-4E49-BF14-39DD64DA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D78525-576C-4B20-B29D-6848A1D7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4E892E-3607-4CE1-B749-1BBF29AC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A37B05-473F-40B1-8362-39336C26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BA433F-618A-4CE2-88B2-7A2C7AEA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48C8BA-ACEC-4D21-9430-9DEF20A9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AE3E-31A7-4DFC-A1DD-D35A8BF3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346A2F-E434-4191-A23C-4719853B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3448D9-D94D-4008-972B-96B6E569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81A42A-84F8-438B-B496-DD93FB68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1CA831-F77B-4620-AF00-A4277C18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966A81-EC96-4AA0-A684-09590E21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AB2DAB-FC22-4E41-A318-4A2CB21A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D9F0F4-D42A-442E-BCDC-16C95C7F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067944-F7D5-488D-A73D-EA801CB3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BF33E2-0A4A-435F-90DB-62910356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3E5F85-CDF1-448E-A0F6-A5771501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7C46D-3579-494A-9C0D-8B8BAF10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005DA9-AE5E-48C4-8FB1-92E8880A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805255-0C8F-4F5E-A505-DC86A666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EC76A2-2427-4303-A4F5-C630DA58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0C118-D677-4240-A808-CD011651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59E64-8AD4-42E4-B3AD-6EBE78A9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EA3C7-4186-4183-98EF-8F826E56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0E007-59EC-44F3-88CF-0F8010DC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0733-AE7C-466E-95E6-E78D11D5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682D8-3325-41E9-BB0D-CCD3F81F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C5352-6271-4AB6-81DB-610442D9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0F67A-EE37-43D0-B44D-9168A02A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837AD-0EE4-4512-A27F-407FFDDE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9A74C-A91D-4D9A-B906-0F29500A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D232A-2DC7-4629-A804-B1F0B3ED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CB0FA-A387-4C52-A253-11FE67EF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6D05A7-54C7-42EC-BC47-0FDD7FDA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E97C77-89CD-4BD3-9F96-28895D45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CB4A30-49F1-41F8-9517-21F6AB33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C9ED-4812-4E90-8A33-0601D3D1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0DDC1B-D239-4298-ADD6-B0C77741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5F88AC-FCB7-4652-8BD3-FD9F25D6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0B4EA8-4264-4AB4-AAEF-99E24334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84551E-BE45-410E-A0E8-1451B415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25697D-9876-4201-9470-CEB40226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DB539C-1D82-4D68-9E59-8FAB4213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46C4C0-FC2D-4CA0-A51A-F52C7A38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3EF32C-84F8-4226-B2C6-99B56533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C31E76-FAA0-4DD3-8C41-E93B2F15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75E86-9589-48E2-8D7E-6C812F4B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A23C-727F-4450-8F1F-91339DFD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DAD18-B3EB-4BE5-8AD1-A4980787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2D0D1-CF04-46BB-93E8-9BDC8818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B1F61-6FD6-4AAE-B021-CE393D0E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DA973-0765-4C4B-8C37-7DC7A920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87BB0-C340-43D1-9539-DA86B804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DC4C9-8F79-43C4-AD23-D33D6908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57C31-FAE4-47BC-8823-EBDD14ED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905FF-6A42-48D1-8452-E0AC45D3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AE108-91E3-4054-A289-C2F106BC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1FFCA-F81E-41FA-987F-356CC81F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65CB-5D75-4BD0-A84B-8D6872D7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9549B-1907-4791-987E-0B8F0B9B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02249-1790-4AD1-9384-F607D0CC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48101-BE47-40FF-A470-520ED704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92ABC-C412-4FB8-91D1-345A29D3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76B77-8502-4A29-B70A-D0D6EE8C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EEAB4-38F0-4F9B-A698-E5518DD1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81AB8-B1C9-40D5-B310-049455FC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64759-7BB0-4972-A3AD-4A6E389E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B8785-97FA-49CA-B57D-A4F8FC8B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A150C-1E77-4E3D-B0C8-CBA9B12F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A5A4-B31D-4F1A-8C72-034D08AE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0E7BA-DF9D-45B6-979C-B029B057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3D23E-9D70-4E4F-B76D-CF4D3802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F3C6D-365A-47FD-B607-15D994DC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D8513-CFBD-46DE-A5A9-7D400A2C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7A1A1-A795-49CE-918F-C883A6D7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B9250-E422-4273-8DA1-862B5ABB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2BC73-1E58-42FD-989C-7602FDD3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8A637-5DC8-4669-A3A1-C71338C9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AF3EC-C8F2-4CEB-9ACC-522D913D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69D0F-7ECD-460A-9B9F-08C4E8DF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D43-5EBC-40F9-B6AE-C77FD838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32235-5190-4548-8A4E-40246646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D38D1-AB3D-481F-B03C-1B498CB1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71262-B768-48BE-B15C-E5A53F52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1B895-1F8B-4D7D-9EFC-700C37AB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330B0-9ACE-43FB-9B0B-6C1201AB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9042C-98D9-455B-BF57-E1855DE0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7F654-89E8-4C42-9DDF-F9DF0883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3AEF5-F7C3-4435-9D97-E6BC4B1B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34DBA-C29A-4EE7-8491-449F40EF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58490-6638-456B-900B-31E287D0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EA6C-3B2E-4E25-963C-47780D65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10641-610E-4FC8-B3F8-B1A08E7B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CE13F-D1D4-4E63-84F4-118FEFF4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2AB42-4500-408F-855F-3FE05F5A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7389D-1F3C-41EE-937A-9E992264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EB788-5A45-4C53-8D1E-E1C990F3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C0C9A-35B8-4238-A11A-75DB3B97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79522-19FA-49CF-B328-C7205D85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3F8BA-5512-42B4-91A4-8B88F8EC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74DB6-0B17-4792-866D-3138599D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71D89-E79F-4770-833F-C13860FA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D56E-F1E9-4599-890E-1330FAE835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25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27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652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dt" idx="28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ftr" idx="29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3D2D-8CAA-48B3-9FD1-E0EAF65F89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3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2821-BB60-41C8-B985-FD1BF1970AB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9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E618-C40E-465D-9FA4-FC6D03BEC85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4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855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4FBA-EADA-416C-B2BC-39C12B8B75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900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dt" idx="4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ftr" idx="4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sldNum" idx="4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CC16-229D-40D7-8B30-43007D18C7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4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D034-3FA4-4D82-90B2-40C6F5D51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dt" idx="4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B465-F66B-4969-A7CB-C7AEDF935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E5B6-0625-4B21-81D7-6B306FB3D2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031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044" name="PlaceHolder 5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5CDB-5297-4378-BBA0-41746A1DA7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87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491C-D9C9-45D6-B8C2-54A3590274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67F8-7613-4FD3-977C-29C903643D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1C2D-D0C1-48EB-846B-54C4F80E7C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DD37-CFF3-48B7-B5F6-28D06F03C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9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9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1B69-32AE-4740-A4B0-545F6C22F5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5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5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6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6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137F-126F-4A01-A3B2-05D1A8D3F5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5BF8-FBDD-46FB-BA11-ABC89A08E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1D2D-52C0-4307-8ABD-B4A1A612C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1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1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1DA4-7ABC-4EC6-B9D5-AA7C353D8F8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6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6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7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2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2303-AF22-4E1E-A4B3-0A2C4C0F412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1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2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dt" idx="25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ftr" idx="26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3502-EB93-4853-9A30-E3088ED25E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Существовала ли бы Америка, Если бы ее не открыли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r>
              <a:rPr b="0" i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Попова Екатерина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232 гр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2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Коренное население Амери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1" name="" descr=""/>
          <p:cNvPicPr/>
          <p:nvPr/>
        </p:nvPicPr>
        <p:blipFill>
          <a:blip r:embed="rId1"/>
          <a:stretch/>
        </p:blipFill>
        <p:spPr>
          <a:xfrm>
            <a:off x="3849840" y="2060640"/>
            <a:ext cx="4803480" cy="4062240"/>
          </a:xfrm>
          <a:prstGeom prst="rect">
            <a:avLst/>
          </a:prstGeom>
          <a:ln w="0">
            <a:noFill/>
          </a:ln>
        </p:spPr>
      </p:pic>
      <p:sp>
        <p:nvSpPr>
          <p:cNvPr id="1292" name=""/>
          <p:cNvSpPr/>
          <p:nvPr/>
        </p:nvSpPr>
        <p:spPr>
          <a:xfrm>
            <a:off x="1332000" y="306864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Индейц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эскимос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алеут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4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аких животных Северной Америки вы знаете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5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3384720" cy="338436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4625280" y="2513160"/>
            <a:ext cx="250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 морж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 американский олен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белый медвед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 орлан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 тюлен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e3e3ff"/>
                </a:solidFill>
                <a:uFillTx/>
                <a:latin typeface="Arial"/>
              </a:rPr>
              <a:t>Кто открыл Америку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62" name="" descr=""/>
          <p:cNvPicPr/>
          <p:nvPr/>
        </p:nvPicPr>
        <p:blipFill>
          <a:blip r:embed="rId1"/>
          <a:stretch/>
        </p:blipFill>
        <p:spPr>
          <a:xfrm>
            <a:off x="1258920" y="1986120"/>
            <a:ext cx="2671560" cy="3396960"/>
          </a:xfrm>
          <a:prstGeom prst="rect">
            <a:avLst/>
          </a:prstGeom>
          <a:ln w="0">
            <a:noFill/>
          </a:ln>
        </p:spPr>
      </p:pic>
      <p:sp>
        <p:nvSpPr>
          <p:cNvPr id="1263" name=""/>
          <p:cNvSpPr/>
          <p:nvPr/>
        </p:nvSpPr>
        <p:spPr>
          <a:xfrm>
            <a:off x="5633280" y="33037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Христофор Колумб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5000">
    <p:comb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aeaea"/>
                </a:solidFill>
                <a:uFillTx/>
                <a:latin typeface="Tahoma"/>
              </a:rPr>
              <a:t>В каком году была открыта Америка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5" name="" descr=""/>
          <p:cNvPicPr/>
          <p:nvPr/>
        </p:nvPicPr>
        <p:blipFill>
          <a:blip r:embed="rId1"/>
          <a:stretch/>
        </p:blipFill>
        <p:spPr>
          <a:xfrm>
            <a:off x="1406520" y="2465280"/>
            <a:ext cx="2619360" cy="2598840"/>
          </a:xfrm>
          <a:prstGeom prst="rect">
            <a:avLst/>
          </a:prstGeom>
          <a:ln w="0">
            <a:noFill/>
          </a:ln>
        </p:spPr>
      </p:pic>
      <p:sp>
        <p:nvSpPr>
          <p:cNvPr id="1266" name=""/>
          <p:cNvSpPr/>
          <p:nvPr/>
        </p:nvSpPr>
        <p:spPr>
          <a:xfrm>
            <a:off x="4140360" y="2852640"/>
            <a:ext cx="48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12 сентября 1492 года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5000">
    <p:zoom dir="in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В честь кого был назван материк Америк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8" name="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3070440" cy="3743280"/>
          </a:xfrm>
          <a:prstGeom prst="rect">
            <a:avLst/>
          </a:prstGeom>
          <a:ln w="0">
            <a:noFill/>
          </a:ln>
        </p:spPr>
      </p:pic>
      <p:sp>
        <p:nvSpPr>
          <p:cNvPr id="1269" name=""/>
          <p:cNvSpPr/>
          <p:nvPr/>
        </p:nvSpPr>
        <p:spPr>
          <a:xfrm>
            <a:off x="5056200" y="3016080"/>
            <a:ext cx="34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мериго Веспучч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4000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Сколько путешествий совершил Христофор Колумб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71" name="" descr=""/>
          <p:cNvPicPr/>
          <p:nvPr/>
        </p:nvPicPr>
        <p:blipFill>
          <a:blip r:embed="rId1"/>
          <a:stretch/>
        </p:blipFill>
        <p:spPr>
          <a:xfrm>
            <a:off x="4500720" y="3429000"/>
            <a:ext cx="4321080" cy="3168720"/>
          </a:xfrm>
          <a:prstGeom prst="rect">
            <a:avLst/>
          </a:prstGeom>
          <a:ln w="0">
            <a:noFill/>
          </a:ln>
        </p:spPr>
      </p:pic>
      <p:sp>
        <p:nvSpPr>
          <p:cNvPr id="1272" name=""/>
          <p:cNvSpPr/>
          <p:nvPr/>
        </p:nvSpPr>
        <p:spPr>
          <a:xfrm>
            <a:off x="808200" y="2368440"/>
            <a:ext cx="33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543960" y="1844640"/>
            <a:ext cx="632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Всего Колумб совершил 4 путешествия к Америке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Первое путешествие (3 августа 1492 — 15 марта 1493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Второе путешествие (25 сентября 1493 — 11 июня 1496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Третье путешествие (30 мая 1498 — 25 ноября 1500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Четвёртое путешествие (9 мая 1502 — ноябрь 1504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4000">
    <p:circl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Первая экспедиц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75" name=""/>
          <p:cNvGraphicFramePr/>
          <p:nvPr/>
        </p:nvGraphicFramePr>
        <p:xfrm>
          <a:off x="250920" y="1628640"/>
          <a:ext cx="3808440" cy="29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28640"/>
                    <a:ext cx="3808440" cy="29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7" name=""/>
          <p:cNvSpPr/>
          <p:nvPr/>
        </p:nvSpPr>
        <p:spPr>
          <a:xfrm>
            <a:off x="4212720" y="2276640"/>
            <a:ext cx="48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Первая экспедиция состоялась в 1492 год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278" name="" descr=""/>
          <p:cNvPicPr/>
          <p:nvPr/>
        </p:nvPicPr>
        <p:blipFill>
          <a:blip r:embed="rId3"/>
          <a:stretch/>
        </p:blipFill>
        <p:spPr>
          <a:xfrm>
            <a:off x="4211640" y="3573360"/>
            <a:ext cx="4095720" cy="2857680"/>
          </a:xfrm>
          <a:prstGeom prst="rect">
            <a:avLst/>
          </a:prstGeom>
          <a:ln w="0">
            <a:noFill/>
          </a:ln>
        </p:spPr>
      </p:pic>
    </p:spTree>
  </p:cSld>
  <p:transition advTm="4000"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Вторая экспедиц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0" name="" descr=""/>
          <p:cNvPicPr/>
          <p:nvPr/>
        </p:nvPicPr>
        <p:blipFill>
          <a:blip r:embed="rId1"/>
          <a:stretch/>
        </p:blipFill>
        <p:spPr>
          <a:xfrm>
            <a:off x="5070600" y="2257560"/>
            <a:ext cx="2847960" cy="1560240"/>
          </a:xfrm>
          <a:prstGeom prst="rect">
            <a:avLst/>
          </a:prstGeom>
          <a:ln w="0">
            <a:noFill/>
          </a:ln>
        </p:spPr>
      </p:pic>
      <p:sp>
        <p:nvSpPr>
          <p:cNvPr id="1281" name=""/>
          <p:cNvSpPr/>
          <p:nvPr/>
        </p:nvSpPr>
        <p:spPr>
          <a:xfrm>
            <a:off x="4647240" y="5373720"/>
            <a:ext cx="40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Состоялась в15 сентября 1943 год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282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3809880" cy="4647960"/>
          </a:xfrm>
          <a:prstGeom prst="rect">
            <a:avLst/>
          </a:prstGeom>
          <a:ln w="0">
            <a:noFill/>
          </a:ln>
        </p:spPr>
      </p:pic>
    </p:spTree>
  </p:cSld>
  <p:transition advTm="4000">
    <p:wheel spokes="2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8" dur="2000" fill="hold"/>
                                        <p:tgtEl>
                                          <p:spTgt spid="1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b7e7ff"/>
                </a:solidFill>
                <a:uFillTx/>
                <a:latin typeface="Arial"/>
              </a:rPr>
              <a:t>Третья экспедиц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84" name="" descr=""/>
          <p:cNvPicPr/>
          <p:nvPr/>
        </p:nvPicPr>
        <p:blipFill>
          <a:blip r:embed="rId2"/>
          <a:stretch/>
        </p:blipFill>
        <p:spPr>
          <a:xfrm>
            <a:off x="387360" y="2125800"/>
            <a:ext cx="4410000" cy="3135240"/>
          </a:xfrm>
          <a:prstGeom prst="rect">
            <a:avLst/>
          </a:prstGeom>
          <a:ln w="0">
            <a:noFill/>
          </a:ln>
        </p:spPr>
      </p:pic>
      <p:sp>
        <p:nvSpPr>
          <p:cNvPr id="1285" name=""/>
          <p:cNvSpPr/>
          <p:nvPr/>
        </p:nvSpPr>
        <p:spPr>
          <a:xfrm>
            <a:off x="5076720" y="2708280"/>
            <a:ext cx="35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Третью экспедицию Колумб совершил  30 мая 1498 год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4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Четвертая экспедиц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7" name="" descr=""/>
          <p:cNvPicPr/>
          <p:nvPr/>
        </p:nvPicPr>
        <p:blipFill>
          <a:blip r:embed="rId1"/>
          <a:stretch/>
        </p:blipFill>
        <p:spPr>
          <a:xfrm>
            <a:off x="4859280" y="2708280"/>
            <a:ext cx="3672000" cy="3338640"/>
          </a:xfrm>
          <a:prstGeom prst="rect">
            <a:avLst/>
          </a:prstGeom>
          <a:ln w="0">
            <a:noFill/>
          </a:ln>
        </p:spPr>
      </p:pic>
      <p:sp>
        <p:nvSpPr>
          <p:cNvPr id="1288" name=""/>
          <p:cNvSpPr/>
          <p:nvPr/>
        </p:nvSpPr>
        <p:spPr>
          <a:xfrm>
            <a:off x="4720320" y="2060640"/>
            <a:ext cx="36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Состоялась с 1502 по 1504 год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289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4537080" cy="3086280"/>
          </a:xfrm>
          <a:prstGeom prst="rect">
            <a:avLst/>
          </a:prstGeom>
          <a:ln w="0">
            <a:noFill/>
          </a:ln>
        </p:spPr>
      </p:pic>
    </p:spTree>
  </p:cSld>
  <p:transition advTm="4000">
    <p:newsflash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6:52:17Z</dcterms:created>
  <dc:creator>KATERINA</dc:creator>
  <dc:description/>
  <dc:language>en-US</dc:language>
  <cp:lastModifiedBy>07105</cp:lastModifiedBy>
  <dcterms:modified xsi:type="dcterms:W3CDTF">2009-10-23T06:01:27Z</dcterms:modified>
  <cp:revision>5</cp:revision>
  <dc:subject/>
  <dc:title>Существовала ли бы Америка, Если бы ее не открыли?</dc:title>
</cp:coreProperties>
</file>